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20084"/>
        <c:axId val="83526230"/>
      </c:barChart>
      <c:catAx>
        <c:axId val="27620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26230"/>
        <c:crosses val="autoZero"/>
        <c:auto val="1"/>
        <c:lblAlgn val="ctr"/>
        <c:lblOffset val="100"/>
        <c:noMultiLvlLbl val="0"/>
      </c:catAx>
      <c:valAx>
        <c:axId val="83526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20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FA9-9137-4BC1-A00D-144B7C26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D81-9F42-422E-990E-8EDB4CD3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FE3-A270-4FDD-83BB-214ECDE6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BE1-4469-4204-968F-F054914D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C72-6EC1-4FE9-82CF-90313F4C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07E-D4E5-44A0-AC1A-624799F5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5CD-05AF-4CDD-ACD7-8E8C7665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8EE-078B-4FFC-9EC1-E17DBCBD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9FD-0E6C-46B5-AC88-A243F37A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5FC-0946-44BA-BCA2-D246E40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F1E-5974-443C-87FA-BA4ED1A7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2D6-E1CA-4CB2-B41D-0A1F8AC6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D5DED-420C-4876-B976-B5319753FD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